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bomb.wav" ContentType="audio/x-wav"/>
  <Override PartName="/ppt/media/image10.wmf" ContentType="image/x-wmf"/>
  <Override PartName="/ppt/media/image3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170C-A645-4B0E-9CB9-B184FB0A0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2A93-16A1-44CC-9FF3-185F071741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DE84-2CD0-4AF8-A4DD-7B4D0CCAA0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0DE8-1FE6-4177-95E4-AF9626A9F9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0F50-6202-43E2-B688-3192112850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9983-5260-4974-84EB-0EC38A661A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214D-0530-4FE2-BC33-729E78C293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D2B9-532B-4BD1-AE1B-C81197A963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3646-B946-4082-B963-A07C3B5EA8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095E-45B1-4CAC-B1FC-424A8CBE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87F-AAC0-4035-A010-B9F524B7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99E-C757-4355-9B58-165F145F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2F9-9D38-465D-A8B2-2DB168B2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4E56-7638-464F-BC11-1540BF79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5DCF-EDA7-489C-8CA6-873C58E0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55D3-E411-4063-B5F7-89937B36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BCA7-B806-4857-947C-D9A6B530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EF66-DB46-49E6-B851-8DF60F78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9634-7063-4C71-8CBF-80643457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2532-2A41-4B64-8336-90D8986D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355-12F4-4108-8664-027A7B79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7669-D5FF-4070-98E1-619B4745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C03E-625D-4F6F-B0FF-19A840A7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9963-DED6-4BF7-A944-82849CAB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8DA2-0C6F-495F-B97F-A139B26A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80C3-FFFB-4415-B747-179D16CA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6B1-46FA-4861-99FC-63907D87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115-8EDA-469B-8734-BF032823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694C-76C6-4E47-A567-4CC2CDB3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ED6-1B42-4F36-91C6-F141B36D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0C08-3187-4BAC-AB5D-CFD9F524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9C2-7395-43D8-AEA8-C1079633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094-9080-427A-93F4-B9EFED33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9500-559C-4815-8AD5-A39E8E31B04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36EE-D3FE-41A7-8070-4DDAE1F7266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-463680" y="1060560"/>
            <a:ext cx="9998280" cy="2431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 advTm="8000">
    <p:wheel spokes="8"/>
    <p:sndAc>
      <p:stSnd>
        <p:snd r:embed="rId2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favorite subject is P.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3733920" y="2438280"/>
            <a:ext cx="4871880" cy="4008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  <p:sndAc>
      <p:stSnd>
        <p:snd r:embed="rId3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 favorite  book is LittleCats (Zoo books) by John Wux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2" descr="C:\Program Files\Microsoft Office\MEDIA\CAGCAT10\j0332364.wmf"/>
          <p:cNvPicPr/>
          <p:nvPr/>
        </p:nvPicPr>
        <p:blipFill>
          <a:blip r:embed="rId2"/>
          <a:stretch/>
        </p:blipFill>
        <p:spPr>
          <a:xfrm>
            <a:off x="4191120" y="3024360"/>
            <a:ext cx="3276360" cy="26413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  <p:sndAc>
      <p:stSnd>
        <p:snd r:embed="rId3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favorite place  Japan, Toky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2" descr="C:\Program Files\Microsoft Office\MEDIA\CAGCAT10\j0222019.wmf"/>
          <p:cNvPicPr/>
          <p:nvPr/>
        </p:nvPicPr>
        <p:blipFill>
          <a:blip r:embed="rId2"/>
          <a:stretch/>
        </p:blipFill>
        <p:spPr>
          <a:xfrm>
            <a:off x="5029200" y="1676520"/>
            <a:ext cx="3857760" cy="3871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  <p:sndAc>
      <p:stSnd>
        <p:snd r:embed="rId3" name="bomb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 favorite  food is App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2" descr="C:\Program Files\Microsoft Office\MEDIA\CAGCAT10\j0217698.wmf"/>
          <p:cNvPicPr/>
          <p:nvPr/>
        </p:nvPicPr>
        <p:blipFill>
          <a:blip r:embed="rId2"/>
          <a:stretch/>
        </p:blipFill>
        <p:spPr>
          <a:xfrm>
            <a:off x="2362320" y="297180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  <p:sndAc>
      <p:stSnd>
        <p:snd r:embed="rId3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rson I want to meet Miranda Cosgro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C:\Program Files\Microsoft Office\MEDIA\CAGCAT10\j0216724.wmf"/>
          <p:cNvPicPr/>
          <p:nvPr/>
        </p:nvPicPr>
        <p:blipFill>
          <a:blip r:embed="rId2"/>
          <a:stretch/>
        </p:blipFill>
        <p:spPr>
          <a:xfrm>
            <a:off x="5181480" y="2971800"/>
            <a:ext cx="3124440" cy="3465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  <p:sndAc>
      <p:stSnd>
        <p:snd r:embed="rId3" name="bomb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 am afraid of Jesu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Cloud"/>
          <p:cNvSpPr/>
          <p:nvPr/>
        </p:nvSpPr>
        <p:spPr>
          <a:xfrm>
            <a:off x="1447920" y="4033800"/>
            <a:ext cx="6629400" cy="2824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wheel spokes="8"/>
    <p:sndAc>
      <p:stSnd>
        <p:snd r:embed="rId2" name="bomb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want to join the Air For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2" descr="C:\Program Files\Microsoft Office\MEDIA\CAGCAT10\j0233070.wmf"/>
          <p:cNvPicPr/>
          <p:nvPr/>
        </p:nvPicPr>
        <p:blipFill>
          <a:blip r:embed="rId2"/>
          <a:stretch/>
        </p:blipFill>
        <p:spPr>
          <a:xfrm>
            <a:off x="1295280" y="2895480"/>
            <a:ext cx="6248520" cy="3132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  <p:sndAc>
      <p:stSnd>
        <p:snd r:embed="rId3" name="bomb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3:24:40Z</dcterms:created>
  <dc:creator> pc#8</dc:creator>
  <dc:description/>
  <dc:language>en-US</dc:language>
  <cp:lastModifiedBy> </cp:lastModifiedBy>
  <dcterms:modified xsi:type="dcterms:W3CDTF">2009-11-12T20:01:20Z</dcterms:modified>
  <cp:revision>8</cp:revision>
  <dc:subject/>
  <dc:title>Who am I</dc:title>
</cp:coreProperties>
</file>